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12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4FA7-7B7F-4E7D-8FDC-8C96DDBAF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’s double/half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4 is actually a real-tim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s can change arbitrarily (other civs m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 different for different units/p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mposition: define financial trouble as a smal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arity: unit AI functions had parameter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we accomplishing by being “fai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even 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d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he only source of fun… this is why we start players at Set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challenge with game AI is that the design changes as you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 from Heaven: Magic system is an example of extend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usiness card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CA3-5223-4D75-929D-9C7BAD74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4CB-EBA2-4FDF-8F5A-122BA256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BC1-5342-4BC6-BC1F-BB17ADFA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071-5A4C-4B7B-AE02-5798FAFB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1DF5-71A5-4576-AD88-DBC48D66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F0F4-06EA-4967-9F79-6145F41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4164-6328-44DF-A01A-9D640248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9870-6EE3-4DD0-A080-2CA3B404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7F10-499E-48D6-A1A3-84E87F82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C46C-4FF2-4F1F-91BB-36401BA9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A864-F72B-4C40-82CB-5BCE683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F55-1110-4673-AEB6-E0ECBAEF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3031-8A4A-4254-A3C3-ED2C12C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B18B-F514-4134-BBE7-325089FC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CEFA-3606-4B2C-9F3C-26FC9406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7A2C-9F12-4052-B170-D7554E71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3B9A-0008-4A0D-AE69-D4FE7598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27A-C2F2-4AF9-A5BE-52BD1EDB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353-8596-40C0-B40C-CE825078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B83-57D5-40A8-8B47-53B31A1F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002-7303-4B7E-A84E-E87DDECA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156-D417-428C-89EF-01F65027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E6C-00C2-445A-B9E6-EC92A452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8DA-B342-42C8-A70F-77187C56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ED70-D74C-422F-B428-1274F3D773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F023-70D5-4E3E-A635-909A7D0756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ivilizationboxar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Image:Civ2boxart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en.wikipedia.org/wiki/Image:Civilization3_cover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2kgames.com/civ4/downloads.htm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bestgamewallpapers.com/files/civilization-4/gandhi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 Work in Progress: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riting Civilization’s A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10552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ren Joh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ren.johnson@g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designer-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Civiliz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3048120"/>
            <a:ext cx="1466640" cy="164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Civiliz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3581280"/>
            <a:ext cx="1468440" cy="145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Civilization 3 cov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5480" y="4114800"/>
            <a:ext cx="153360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4648320" y="3200400"/>
            <a:ext cx="1716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arly A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 Multi-player fir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 on AI for hum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th-fin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tom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number twea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dom AI is val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5029200"/>
            <a:ext cx="518148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nt CvPlayerAI::AI_foundValue(int iX, int i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return getGame ().getRandNum(10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ft-Coded A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AI scrip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enums (No “Temple”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ss brittle co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ss predictable 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…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 always a good th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ft-Coded AI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vCityAI::AI_buildingValue(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wro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righ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648320"/>
            <a:ext cx="738036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Value += (min(getBuildingInfo(iI).getHappiness(), iAngryPopulation) * 1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Value += (getBuildingInfo(iI).getCommerceChange(COMMERCE_CULTURE) * 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819520"/>
            <a:ext cx="739152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f (iI == eBuildingTe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Value += 2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ata Driven Mo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3962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Civ II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uble you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eas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38560" y="1704960"/>
            <a:ext cx="590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ata Driven Mo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2133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Civ I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ll fr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v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babilistic Reasoning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88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sign weights to various fac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values to sit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d random noi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a dec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22681"/>
          <a:stretch/>
        </p:blipFill>
        <p:spPr>
          <a:xfrm>
            <a:off x="5334120" y="2935440"/>
            <a:ext cx="3537000" cy="3916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48720" y="29718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 example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1676520"/>
            <a:ext cx="7162920" cy="483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nt CvPlayerAI::AI_techValue(TechTypes eT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nt iValue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Value += getTeam().getResearchProgress(eTec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f (getTechInfo(eTech).isIrrigation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Value += 4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f (GC.getTechInfo(eTech).isOpenBordersTrading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f (getTeam().getHasMetCount() &g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Value += 4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f (getTeam().getNumCoastalCities() &g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iValue += 4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return (iValue + getGame().getRandNum(2000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ut is it “AI”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decision tre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learning algorith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state mach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Bayesian networ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don’t know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ustom A* Path-Find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268880" cy="305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248000" cy="303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ustom A* Path-Find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verride Cost, Heuristic, Valid, and Add fun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in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rrig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de rou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che Open and Closed Li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lved performance issu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mental pathing for unit grou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ngerous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 Work in Progress (The Outline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 to Ci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ment Detai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Cheats? OMGZBBQ!!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nk to the Co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ease ask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arning AI: A Cautionary Ta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08804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Civ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Domestic Advisor learned from your choices to make better sugg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d to some extremely hard-to-find b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267080"/>
            <a:ext cx="3809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st understand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wh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I is making deci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762520" y="3905280"/>
            <a:ext cx="3381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I Development Tip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sert on invalid val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st for isHuman(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counters/timers for e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parate AI from gameplay co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omposition! Modularity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ose AI reaso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sting the A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al testing fai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tomated testing helps grea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 hard-core fans to analyz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5 year Closed B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aked at 100 us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i-weekly patch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The image “http://www.lithium.com/content/prod-forums-psx.jpg” cannot be displayed, because it contains errors."/>
          <p:cNvPicPr/>
          <p:nvPr/>
        </p:nvPicPr>
        <p:blipFill>
          <a:blip r:embed="rId1"/>
          <a:srcRect l="0" t="40720" r="0" b="4627"/>
          <a:stretch/>
        </p:blipFill>
        <p:spPr>
          <a:xfrm>
            <a:off x="4495680" y="4915080"/>
            <a:ext cx="44960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I Chea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ould we che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we be fair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notices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fu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http://www.civfanatics.com/sotd/sotd05.jpg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Civ IV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Difficulty Level AI Cos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ttler (+50%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ieftain (+20%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arlord (+10%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Noble (Eve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nce (-5%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narch (-10%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mperor (-15%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mortal (-20%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ity (-40%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48280" y="2714760"/>
            <a:ext cx="4095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 Love Charts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52600" y="1776240"/>
          <a:ext cx="681336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776240"/>
                    <a:ext cx="68133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ut… Is “Even” Ev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ble has other chea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imal/Barbarian comb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suppo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upgra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ar Weari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 needs more help in these are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eats should NOT be linear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hould Never “Feel” Unfai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Civ I, I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ree wonder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ang up on hu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Civ III, I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uman-blind diplomac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ormation chea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http://www.civfanatics.com/sotd/sotd93.jpg"/>
          <p:cNvPicPr/>
          <p:nvPr/>
        </p:nvPicPr>
        <p:blipFill>
          <a:blip r:embed="rId1"/>
          <a:stretch/>
        </p:blipFill>
        <p:spPr>
          <a:xfrm>
            <a:off x="5791320" y="4346640"/>
            <a:ext cx="33526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formation Chea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iv II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ty targeting ignored Fog-of-War to look at defenders, leading to “Amphibious Assault Judo” using empty port c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2743200"/>
            <a:ext cx="3276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iv I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domly update assault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gnore temporary data, such as nearby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33963"/>
          <a:stretch/>
        </p:blipFill>
        <p:spPr>
          <a:xfrm>
            <a:off x="4267080" y="3211560"/>
            <a:ext cx="48769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eating” is Rela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ech Trading Problem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I must trade tech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I must trade fair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uman can sell techs cheap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ould the AI sell techs cheapl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lution??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o am I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 in Computer Science (Stanford ’99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-Computer Inter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tic/Learning 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fessional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Knockout Kings 2000, 20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AI Int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ivilization II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Co-Designer, AI Program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ivilization I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Project Lead, Lead Designer, AI Program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po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Designer, AI Program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51055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Spore.jpg"/>
          <p:cNvPicPr/>
          <p:nvPr/>
        </p:nvPicPr>
        <p:blipFill>
          <a:blip r:embed="rId2"/>
          <a:stretch/>
        </p:blipFill>
        <p:spPr>
          <a:xfrm>
            <a:off x="5029200" y="5181480"/>
            <a:ext cx="1981080" cy="1308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76880" y="5715000"/>
            <a:ext cx="34740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ch Trading Problem Solutio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3200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ies to make up difference in go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trades on random turn interv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s same “Refuses Trade With” logic as with hu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238640" y="2438280"/>
            <a:ext cx="4905360" cy="3678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373040" y="1828800"/>
            <a:ext cx="7313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 can undersell by 33% but…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’s the point of cheating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we trying to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rite the “best” AI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at the huma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 fair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Cheat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for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Challeng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which is one source of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Fu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igning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the AI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AI handle the op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ign help for 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lobal unit suppo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osed bord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llateral dam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forced peace trea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sure not designing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jus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for 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 vs. “Good” A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want players to win or, at least, understand why they lo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benchmarks (not Deep Blu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m for personality/varie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 falling for a trap can b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fu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leasing the A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ame/AI code released on April ’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nd-alone project compiles “CvGameCoreDLL.dll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stom DLL replaces game co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% independent of eng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nds game function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esting AI Proje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unity Enhancement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tic AI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lake’s Better 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iv4: Better AI” on SourceFor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5,000+ downloa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s adopted for Expans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AI Code to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Civ 4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896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2kgames.com/civ4/download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ile it yourself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2" name="" descr="Gandh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676520"/>
            <a:ext cx="5943600" cy="4752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629400" y="5730840"/>
            <a:ext cx="20606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ren Joh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ren.johnson@g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designer-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 History of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Civiliz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8920" y="2103480"/>
            <a:ext cx="35892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ivilization I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99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ic “god game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ple, turn-based game mechan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ivilization I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99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units, buildings, technologies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ometric 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complexity (hit points, trade syste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enario edi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04040" y="1827360"/>
            <a:ext cx="278100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16640" y="3886200"/>
            <a:ext cx="2754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 History of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Civiliz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8920" y="2103480"/>
            <a:ext cx="36576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ivilization II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200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lture, resour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exible diploma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les edi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t anim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ivilization I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200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igion, great peo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plified mechan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p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ython/X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D Wor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275436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z.about.com/d/compactiongames/1/0/E/J/civ4.jpg"/>
          <p:cNvPicPr/>
          <p:nvPr/>
        </p:nvPicPr>
        <p:blipFill>
          <a:blip r:embed="rId2"/>
          <a:srcRect l="0" t="0" r="0" b="7031"/>
          <a:stretch/>
        </p:blipFill>
        <p:spPr>
          <a:xfrm>
            <a:off x="5486400" y="3886200"/>
            <a:ext cx="27432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Civilization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by the desig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iv 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id Me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iv I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Brian Reyno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iv III, I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oren John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-Coded Dec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abilistic Reasoning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 A* Path-F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 Code released April 2006 (SD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me Sta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Civ I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I Cod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0 Files (Game, Team, Player, City, Uni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5,000 lines of 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Civ I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Gameplay Cod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0 Fi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50,00 lines of 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Civ I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ther Code (first-party)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500 Fi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00,000 lines of 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ich means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0160" y="1827360"/>
          <a:ext cx="731340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827360"/>
                    <a:ext cx="73134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y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Civ IV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Development Time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52600" y="1776240"/>
          <a:ext cx="681336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776240"/>
                    <a:ext cx="68133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2:01:28Z</dcterms:created>
  <dc:creator>670image</dc:creator>
  <dc:description/>
  <dc:language>en-US</dc:language>
  <cp:lastModifiedBy>sejohnson</cp:lastModifiedBy>
  <dcterms:modified xsi:type="dcterms:W3CDTF">2007-07-20T17:42:18Z</dcterms:modified>
  <cp:revision>24</cp:revision>
  <dc:subject/>
  <dc:title>A Work in Progress: Civilization’s AI</dc:title>
</cp:coreProperties>
</file>